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6941-5C72-4CE7-B100-3C7F553B60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1F0E-C4BC-4E95-811E-4B0798862A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99E-2DE1-4E58-91B3-4ED4441D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FC0-FF31-4212-8EF3-42A47C37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734-A785-435D-9B06-3D2A6C3A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48B-9DDC-4C48-A6FD-90250A0E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852B-2C50-4AAB-B9B6-468E17AC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3EB5-9638-4750-B021-FC7AC231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1F3A-416F-447C-AE6D-A9B85433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944F-5708-4FE9-93F1-9B02F658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377C-E617-48F3-986E-765665B4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80F1-0A58-4848-BF6E-87C1905D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C6AF-18FB-453D-8AC5-5F857D93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FE1D-9FDC-4034-890B-3BD5B235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7AE8-C269-4F91-B4C2-036CD587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940D-DAF2-4AE0-AA34-40BB1FE1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8D17-DC0E-4FBC-9B67-8F9CAA26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3AD4-FB84-4CD4-8EE0-208D9EF63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9BF3-52A0-4B6F-929F-479B721C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7618F-FAAE-490C-9925-69CE99C5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BD51F-8C2D-4CD6-A86A-2A62CAB5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375F8-B61B-4276-A4D4-790634F6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9314-F238-4608-B3DA-B2017825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65D77-CBE7-4AAA-AD3E-15E0D085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29D-B82D-4D90-AC6B-A6E84BC0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D35AF-1CC8-4C08-93A7-51BD8149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604DC-C36D-4A6E-8A3B-FED17F7F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43C33-7D10-4E21-AC20-77D648C4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B1696-11D2-4D77-8FF6-4A3F3A29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3DCA6-F9C3-49A6-BCEF-DB8020FE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E2FDD-4A4C-4D4B-B22C-C34C176C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337E3-2E15-42E4-82BF-38452BAF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6570C-3EAD-4052-BF01-AF4F1767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A33CA-D652-4466-A177-DDAB511C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84F7D-2133-44B6-BAC4-F6B481E1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0D0-F561-43DD-9582-334C27D5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C2430-1242-40BB-8BA5-60B79318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70694-3B5B-419B-B7C8-B984A50B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B871B-D014-42C8-AA83-455C0471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CAC60-48F9-451E-A5EB-BFD6C4E6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1BE61-793A-4F8E-A44F-78A616B0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9F207-35F4-4FF5-995C-42177B09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90887-3A6C-418D-AF35-E9607567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CDC76-96CC-4F75-8BB2-3F6477F8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31CE6-B26D-4303-B68F-1F15B491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9F42D-056C-4D2C-B16E-D9323936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039-13A3-4433-8BC3-2810A025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2334D-64C6-4252-9FA4-DF5B31FF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62CDA-F131-4FF0-BDE3-B0332E42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1E3BB-4458-4DCE-8F82-E7D6A6ED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1EE86-85D8-456E-A8DD-C36B86FC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FA145-A419-477D-AA12-E7454522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739D1-5B1D-404A-A4BE-DAE054EF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A099B-9141-4CC9-8C71-AC1AF986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2E07F-32AA-4868-8484-4A702F65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9B667-6B0A-4353-92A6-C58D9558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09A07-74E0-49A4-8978-4CE4F9EB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8C9-591C-4D38-A2AA-1CE87258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5D0D5-416D-4D58-84B8-DA6B5065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003DF-A40B-401D-A363-121C2704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AF756-1A26-4290-8B52-CBCFBB31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6C98B-C739-45AB-AD44-3573E78E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F3C0F-0016-447C-89C5-F30FEF6A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35FB2-6AD4-40EB-A937-07CFDD10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DAF06-C24C-434C-89BF-937B5ED9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55BC2-4ECB-4B97-B58A-4C0D4462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60235-A276-4243-8BE9-31CF9397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454CB-AEEF-4D5F-94D9-1D7E76CE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A07-CDEF-4318-AFC2-A495E6F8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6384E-4CC2-44F9-8769-871AE360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2B305-3138-437A-A0D1-BCBCEECF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91051-5D2F-42AF-9329-56D0D7B4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821-D2B3-400F-B218-4BBBC06C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BE7-82C4-4738-8A58-1DF6541C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7A98-DE64-4ED6-B3F5-65DBEBA6B6EF}" type="slidenum"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4815-49DA-4BDA-94A2-F99AAB2B2874}" type="slidenum"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6C4B-88E9-4A1E-BBA5-4311436DC2CE}" type="slidenum"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F870-4BE2-4860-8279-08E93FE37861}" type="slidenum"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1622-C4A9-4921-A423-D01870BE4FF9}" type="slidenum"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ddddd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2b2b2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6969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05B3-D568-4A22-BF62-B10EBE297D5F}" type="slidenum">
              <a:rPr b="0" lang="en-US" sz="1000" spc="-1" strike="noStrike">
                <a:solidFill>
                  <a:srgbClr val="b6b6b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603360" y="1731960"/>
            <a:ext cx="7113600" cy="27972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3657240"/>
            <a:ext cx="6480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ristina, Peter, Ry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eminist Movem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lidary – rely on solidary incentives, composed of middle-class women with relatively high levels of education.  They have the widest support of the different feminist moveme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. LWV – League of Women Vo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rposive – use purpose incentives; have strong positions, tackle divisive issues, and employ militant tac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. NOW – National Organization for Women;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RAL – National Abortion Rights Action Leag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ucus – receive grants from foundations and government agencies; takes on specific issues that have some material benefit to wome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. WEAL – Women’s Equity Action Leag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unds and Bia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interest groups are funded by foundation grants, federal grants and contracts, and direct ma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believe that interest groups reflect an upper-class bias because well-off people are more likely to join and be active in groups. Also, there are more interest groups that represent professions and businesses that are better financ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terest Grou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 Any organization that seeks to influence public polic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necessarily composed of individual people, but of offices – corporations, law firms, public relation firms, and “letterhead” organiza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wo kinds: institutional and membership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stitutiona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individuals/organizations representing other organiza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cerned with “bread and butter issues” of concern to their clien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resent governments, foundations, and universit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embership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different kinds – social, business, professional, veterans, charitable organizations, labor unions, religious, civic, political, et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ed incentives to begi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ncentiv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lidary – social rewards that lead people to join political organizations (sense of pleasure, status, or companionship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terial – money or things valued in monetary ter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urpose – benefits that come from serving a cause or princip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Ideological Interest Grou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ological interest groups are political organizations that attract members by appealing to their political convictions and/or principle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ublic-Interest Lobbi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political organization whose goals will primarily benefit nonmember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ursue noncontroversial goals but often are some of the most controversial group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Social Movem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widely shared demands for change in some aspect of the social or political ord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e different kinds of movements mentioned in the book – environmental, feminist, and uni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Environmental and Union Movements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vironmental Movement – first in 1890s because of the conservation issue.  Originally started with the Sierra Club and moved onto other organiz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nion Movement – left over when other social movements have slowed dow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05:49Z</dcterms:created>
  <dc:creator>weberkm</dc:creator>
  <dc:description/>
  <dc:language>en-US</dc:language>
  <cp:lastModifiedBy>kluvere</cp:lastModifiedBy>
  <dcterms:modified xsi:type="dcterms:W3CDTF">2012-03-13T01:05:56Z</dcterms:modified>
  <cp:revision>8</cp:revision>
  <dc:subject/>
  <dc:title>Kinds of Interest Groups</dc:title>
</cp:coreProperties>
</file>